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24FE4-B183-4B9A-8E9C-EF2F5F7586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0868E-EB8C-44C0-97EC-EC2535E0909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A98978-8AAB-48FF-96F9-0BCBECB4665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104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808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104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52B037-953A-42D5-9D12-BB93447FE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8BD6D9-0AC6-4A88-8C6B-E4B403522C9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18EDC-8F8C-4AEA-95FA-0B116D5DC95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515E4C-3626-4BB6-B119-F4553EC4E90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E9677E-9EF4-4C68-8823-61DE0C22D4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01B3F-66C3-4D81-A648-368F4A52FD4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6840" y="243000"/>
            <a:ext cx="83818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764DFE-008F-4779-8086-A5DCBAB46EE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13EACD-D32C-457A-B24D-7870A6F17F5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F4DE0D-044C-4CD5-893C-477FE8454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47DCE-697E-4214-AB23-62C6407D829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C4E93F-13D8-4DA1-A55C-6DBBED8A841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A6936-C6A0-416A-88F2-B0FA95C6CF8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4095A-4A2F-4031-BA2C-54F4B8BA620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456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1040" y="190512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808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456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1040" y="4116600"/>
            <a:ext cx="2577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74F584-15A6-43D6-A32E-6BC48C1F0E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ECD94-F9A5-41F0-B2E0-9503A52FD2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43A93-70E8-4E45-90B9-6CB9C312A4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B2B05-1F22-42E0-8C98-62F82681DC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43000"/>
            <a:ext cx="838188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1209-088E-4377-AA36-FF08B7B9D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E11A3-24D5-4853-99D3-11202DF9CC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39920" y="411660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A9EEC5-1506-4A50-BF42-851F0C9470D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9920" y="1905120"/>
            <a:ext cx="390600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116600"/>
            <a:ext cx="8004240" cy="201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9DBA73-40BD-4E0E-83F4-C2FE2E4131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"/>
          <p:cNvGrpSpPr/>
          <p:nvPr/>
        </p:nvGrpSpPr>
        <p:grpSpPr>
          <a:xfrm>
            <a:off x="318960" y="1828800"/>
            <a:ext cx="8821800" cy="5025960"/>
            <a:chOff x="318960" y="1828800"/>
            <a:chExt cx="8821800" cy="5025960"/>
          </a:xfrm>
        </p:grpSpPr>
        <p:sp>
          <p:nvSpPr>
            <p:cNvPr id="1" name="AutoShape 2"/>
            <p:cNvSpPr/>
            <p:nvPr/>
          </p:nvSpPr>
          <p:spPr>
            <a:xfrm>
              <a:off x="838080" y="4618080"/>
              <a:ext cx="8302680" cy="2236680"/>
            </a:xfrm>
            <a:custGeom>
              <a:avLst/>
              <a:gdLst>
                <a:gd name="textAreaLeft" fmla="*/ 0 w 8302680"/>
                <a:gd name="textAreaRight" fmla="*/ 8303040 w 8302680"/>
                <a:gd name="textAreaTop" fmla="*/ 0 h 2236680"/>
                <a:gd name="textAreaBottom" fmla="*/ 2237040 h 22366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AutoShape 3"/>
            <p:cNvSpPr/>
            <p:nvPr/>
          </p:nvSpPr>
          <p:spPr>
            <a:xfrm>
              <a:off x="333360" y="1828800"/>
              <a:ext cx="8807400" cy="5025960"/>
            </a:xfrm>
            <a:custGeom>
              <a:avLst/>
              <a:gdLst>
                <a:gd name="textAreaLeft" fmla="*/ 0 w 8807400"/>
                <a:gd name="textAreaRight" fmla="*/ 8807760 w 8807400"/>
                <a:gd name="textAreaTop" fmla="*/ 0 h 5025960"/>
                <a:gd name="textAreaBottom" fmla="*/ 5026320 h 5025960"/>
              </a:gdLst>
              <a:ahLst/>
              <a:rect l="textAreaLeft" t="textAreaTop" r="textAreaRight" b="textAreaBottom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AutoShape 4"/>
            <p:cNvSpPr/>
            <p:nvPr/>
          </p:nvSpPr>
          <p:spPr>
            <a:xfrm>
              <a:off x="838080" y="4654440"/>
              <a:ext cx="8302680" cy="2200320"/>
            </a:xfrm>
            <a:custGeom>
              <a:avLst/>
              <a:gdLst>
                <a:gd name="textAreaLeft" fmla="*/ 0 w 8302680"/>
                <a:gd name="textAreaRight" fmla="*/ 8303040 w 8302680"/>
                <a:gd name="textAreaTop" fmla="*/ 0 h 2200320"/>
                <a:gd name="textAreaBottom" fmla="*/ 2200680 h 220032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838080" y="1828800"/>
              <a:ext cx="7310520" cy="42840"/>
            </a:xfrm>
            <a:custGeom>
              <a:avLst/>
              <a:gdLst>
                <a:gd name="textAreaLeft" fmla="*/ 0 w 7310520"/>
                <a:gd name="textAreaRight" fmla="*/ 7310880 w 73105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AutoShape 6"/>
            <p:cNvSpPr/>
            <p:nvPr/>
          </p:nvSpPr>
          <p:spPr>
            <a:xfrm>
              <a:off x="838080" y="1828800"/>
              <a:ext cx="42840" cy="2830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830680"/>
                <a:gd name="textAreaBottom" fmla="*/ 2831040 h 28306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AutoShape 7"/>
            <p:cNvSpPr/>
            <p:nvPr/>
          </p:nvSpPr>
          <p:spPr>
            <a:xfrm>
              <a:off x="836640" y="4610160"/>
              <a:ext cx="42840" cy="224460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2244600"/>
                <a:gd name="textAreaBottom" fmla="*/ 2244600 h 2244600"/>
              </a:gdLst>
              <a:ahLst/>
              <a:rect l="textAreaLeft" t="textAreaTop" r="textAreaRight" b="textAreaBottom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AutoShape 8"/>
            <p:cNvSpPr/>
            <p:nvPr/>
          </p:nvSpPr>
          <p:spPr>
            <a:xfrm>
              <a:off x="318960" y="4610160"/>
              <a:ext cx="4567320" cy="42840"/>
            </a:xfrm>
            <a:custGeom>
              <a:avLst/>
              <a:gdLst>
                <a:gd name="textAreaLeft" fmla="*/ 0 w 4567320"/>
                <a:gd name="textAreaRight" fmla="*/ 4567680 w 45673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AutoShape 9"/>
            <p:cNvSpPr/>
            <p:nvPr/>
          </p:nvSpPr>
          <p:spPr>
            <a:xfrm>
              <a:off x="318960" y="4610160"/>
              <a:ext cx="44640" cy="22446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2244600"/>
                <a:gd name="textAreaBottom" fmla="*/ 2244600 h 22446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Text Box 10"/>
          <p:cNvSpPr/>
          <p:nvPr/>
        </p:nvSpPr>
        <p:spPr>
          <a:xfrm>
            <a:off x="83808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Text Box 11"/>
          <p:cNvSpPr/>
          <p:nvPr/>
        </p:nvSpPr>
        <p:spPr>
          <a:xfrm>
            <a:off x="3429000" y="62452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1"/>
          <p:cNvSpPr>
            <a:spLocks noGrp="1"/>
          </p:cNvSpPr>
          <p:nvPr>
            <p:ph type="sldNum" idx="1"/>
          </p:nvPr>
        </p:nvSpPr>
        <p:spPr>
          <a:xfrm>
            <a:off x="6936840" y="6245280"/>
            <a:ext cx="1899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l-PL" sz="2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807EAD-9404-441A-BBAC-36F84A6D722D}" type="slidenum">
              <a:rPr b="0" lang="pl-P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1"/>
          <p:cNvGrpSpPr/>
          <p:nvPr/>
        </p:nvGrpSpPr>
        <p:grpSpPr>
          <a:xfrm>
            <a:off x="318960" y="1752480"/>
            <a:ext cx="8821800" cy="5126040"/>
            <a:chOff x="318960" y="1752480"/>
            <a:chExt cx="8821800" cy="5126040"/>
          </a:xfrm>
        </p:grpSpPr>
        <p:sp>
          <p:nvSpPr>
            <p:cNvPr id="51" name="AutoShape 2"/>
            <p:cNvSpPr/>
            <p:nvPr/>
          </p:nvSpPr>
          <p:spPr>
            <a:xfrm>
              <a:off x="333360" y="1752480"/>
              <a:ext cx="8807400" cy="5102280"/>
            </a:xfrm>
            <a:custGeom>
              <a:avLst/>
              <a:gdLst>
                <a:gd name="textAreaLeft" fmla="*/ 0 w 8807400"/>
                <a:gd name="textAreaRight" fmla="*/ 8807760 w 8807400"/>
                <a:gd name="textAreaTop" fmla="*/ 0 h 5102280"/>
                <a:gd name="textAreaBottom" fmla="*/ 5102280 h 5102280"/>
              </a:gdLst>
              <a:ahLst/>
              <a:rect l="textAreaLeft" t="textAreaTop" r="textAreaRight" b="textAreaBottom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bb5f03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AutoShape 3"/>
            <p:cNvSpPr/>
            <p:nvPr/>
          </p:nvSpPr>
          <p:spPr>
            <a:xfrm>
              <a:off x="838080" y="3809880"/>
              <a:ext cx="8302680" cy="3044880"/>
            </a:xfrm>
            <a:custGeom>
              <a:avLst/>
              <a:gdLst>
                <a:gd name="textAreaLeft" fmla="*/ 0 w 8302680"/>
                <a:gd name="textAreaRight" fmla="*/ 8303040 w 8302680"/>
                <a:gd name="textAreaTop" fmla="*/ 0 h 3044880"/>
                <a:gd name="textAreaBottom" fmla="*/ 3045240 h 3044880"/>
              </a:gdLst>
              <a:ahLst/>
              <a:rect l="textAreaLeft" t="textAreaTop" r="textAreaRight" b="textAreaBottom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b5f03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AutoShape 4"/>
            <p:cNvSpPr/>
            <p:nvPr/>
          </p:nvSpPr>
          <p:spPr>
            <a:xfrm>
              <a:off x="318960" y="3773520"/>
              <a:ext cx="5481720" cy="42840"/>
            </a:xfrm>
            <a:custGeom>
              <a:avLst/>
              <a:gdLst>
                <a:gd name="textAreaLeft" fmla="*/ 0 w 5481720"/>
                <a:gd name="textAreaRight" fmla="*/ 5482080 w 548172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AutoShape 5"/>
            <p:cNvSpPr/>
            <p:nvPr/>
          </p:nvSpPr>
          <p:spPr>
            <a:xfrm>
              <a:off x="838080" y="1752480"/>
              <a:ext cx="7766280" cy="42840"/>
            </a:xfrm>
            <a:custGeom>
              <a:avLst/>
              <a:gdLst>
                <a:gd name="textAreaLeft" fmla="*/ 0 w 7766280"/>
                <a:gd name="textAreaRight" fmla="*/ 7766640 w 7766280"/>
                <a:gd name="textAreaTop" fmla="*/ 0 h 42840"/>
                <a:gd name="textAreaBottom" fmla="*/ 42840 h 42840"/>
              </a:gdLst>
              <a:ahLst/>
              <a:rect l="textAreaLeft" t="textAreaTop" r="textAreaRight" b="textAreaBottom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994e02"/>
                </a:gs>
                <a:gs pos="100000">
                  <a:srgbClr val="bb5f03">
                    <a:alpha val="0"/>
                  </a:srgbClr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AutoShape 6"/>
            <p:cNvSpPr/>
            <p:nvPr/>
          </p:nvSpPr>
          <p:spPr>
            <a:xfrm>
              <a:off x="318960" y="3773520"/>
              <a:ext cx="44640" cy="3105000"/>
            </a:xfrm>
            <a:custGeom>
              <a:avLst/>
              <a:gdLst>
                <a:gd name="textAreaLeft" fmla="*/ 0 w 44640"/>
                <a:gd name="textAreaRight" fmla="*/ 45000 w 44640"/>
                <a:gd name="textAreaTop" fmla="*/ 0 h 3105000"/>
                <a:gd name="textAreaBottom" fmla="*/ 3105360 h 3105000"/>
              </a:gdLst>
              <a:ahLst/>
              <a:rect l="textAreaLeft" t="textAreaTop" r="textAreaRight" b="textAreaBottom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AutoShape 7"/>
            <p:cNvSpPr/>
            <p:nvPr/>
          </p:nvSpPr>
          <p:spPr>
            <a:xfrm>
              <a:off x="838080" y="1752480"/>
              <a:ext cx="42840" cy="5116680"/>
            </a:xfrm>
            <a:custGeom>
              <a:avLst/>
              <a:gdLst>
                <a:gd name="textAreaLeft" fmla="*/ 0 w 42840"/>
                <a:gd name="textAreaRight" fmla="*/ 43200 w 42840"/>
                <a:gd name="textAreaTop" fmla="*/ 0 h 5116680"/>
                <a:gd name="textAreaBottom" fmla="*/ 5117040 h 5116680"/>
              </a:gdLst>
              <a:ahLst/>
              <a:rect l="textAreaLeft" t="textAreaTop" r="textAreaRight" b="textAreaBottom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c3722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43000"/>
            <a:ext cx="838188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8004240" cy="42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990720" y="6245280"/>
            <a:ext cx="19018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346860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sldNum" idx="2"/>
          </p:nvPr>
        </p:nvSpPr>
        <p:spPr>
          <a:xfrm>
            <a:off x="6936840" y="6245280"/>
            <a:ext cx="189900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BFD07C5C-582F-43D3-A31B-85CCCF00FD1C}" type="slidenum">
              <a:rPr b="0" lang="pl-PL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Text Box 1"/>
          <p:cNvSpPr/>
          <p:nvPr/>
        </p:nvSpPr>
        <p:spPr>
          <a:xfrm>
            <a:off x="685800" y="609480"/>
            <a:ext cx="7772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800" spc="-1" strike="noStrike">
                <a:solidFill>
                  <a:srgbClr val="feec94"/>
                </a:solidFill>
                <a:latin typeface="Arial Black"/>
              </a:rPr>
              <a:t>Znajdź właściwe rozwiązani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2"/>
          <p:cNvSpPr/>
          <p:nvPr/>
        </p:nvSpPr>
        <p:spPr>
          <a:xfrm>
            <a:off x="1219320" y="228600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ogram profilaktyki palenia tytoniu dla uczniów starszych klas szkoły podstawowej  </a:t>
            </a:r>
            <a:br>
              <a:rPr sz="3200"/>
            </a:br>
            <a:r>
              <a:rPr b="0" lang="pl-PL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8600" y="4114800"/>
            <a:ext cx="5391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0" y="4267080"/>
            <a:ext cx="6458040" cy="18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ekcja Profilaktyki Zdrowotne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Powiatowa Stacj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Sanitarno – Epidemiologiczna  </a:t>
            </a:r>
            <a:br>
              <a:rPr sz="1600"/>
            </a:b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w Toruni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1280"/>
                <a:tab algn="l" pos="10780560"/>
                <a:tab algn="l" pos="1078236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5334120" y="4038480"/>
            <a:ext cx="3200400" cy="23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Warsztat V</a:t>
            </a:r>
            <a:br>
              <a:rPr sz="4400"/>
            </a:b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Uwierz w siebi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2"/>
          <p:cNvSpPr/>
          <p:nvPr/>
        </p:nvSpPr>
        <p:spPr>
          <a:xfrm>
            <a:off x="304920" y="1197000"/>
            <a:ext cx="8458200" cy="52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zmocnienie poczucia własnej wartości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zbudzenie pozytywnego myślenia o sobi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just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ształcenie ważnych umiejętności w kontaktach z ludź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3419640" y="4076640"/>
            <a:ext cx="23763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1"/>
          <p:cNvSpPr/>
          <p:nvPr/>
        </p:nvSpPr>
        <p:spPr>
          <a:xfrm>
            <a:off x="457200" y="-182520"/>
            <a:ext cx="838512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800"/>
            </a:br>
            <a:r>
              <a:rPr b="0" i="1" lang="pl-PL" sz="4800" spc="-1" strike="noStrike">
                <a:solidFill>
                  <a:srgbClr val="ffff99"/>
                </a:solidFill>
                <a:latin typeface="Arial Black"/>
              </a:rPr>
              <a:t>Dziękuję za uwagę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" name="Group 2"/>
          <p:cNvGrpSpPr/>
          <p:nvPr/>
        </p:nvGrpSpPr>
        <p:grpSpPr>
          <a:xfrm>
            <a:off x="2971800" y="1752480"/>
            <a:ext cx="3336840" cy="4340520"/>
            <a:chOff x="2971800" y="1752480"/>
            <a:chExt cx="3336840" cy="4340520"/>
          </a:xfrm>
        </p:grpSpPr>
        <p:pic>
          <p:nvPicPr>
            <p:cNvPr id="130" name="Picture 3" descr=""/>
            <p:cNvPicPr/>
            <p:nvPr/>
          </p:nvPicPr>
          <p:blipFill>
            <a:blip r:embed="rId1"/>
            <a:stretch/>
          </p:blipFill>
          <p:spPr>
            <a:xfrm>
              <a:off x="2971800" y="1752480"/>
              <a:ext cx="3336840" cy="434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 Box 4"/>
            <p:cNvSpPr/>
            <p:nvPr/>
          </p:nvSpPr>
          <p:spPr>
            <a:xfrm>
              <a:off x="2971800" y="1752480"/>
              <a:ext cx="3336840" cy="4340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1"/>
          <p:cNvSpPr/>
          <p:nvPr/>
        </p:nvSpPr>
        <p:spPr>
          <a:xfrm>
            <a:off x="0" y="-747720"/>
            <a:ext cx="8604360" cy="76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100000"/>
              </a:lnSpc>
              <a:spcBef>
                <a:spcPts val="700"/>
              </a:spcBef>
              <a:buClr>
                <a:srgbClr val="b76a03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ogram </a:t>
            </a:r>
            <a:r>
              <a:rPr b="0" i="1" lang="pl-PL" sz="3200" spc="-1" strike="noStrike">
                <a:solidFill>
                  <a:srgbClr val="feec94"/>
                </a:solidFill>
                <a:latin typeface="Arial"/>
              </a:rPr>
              <a:t>„Znajdź właściwe rozwiązanie”</a:t>
            </a:r>
            <a:r>
              <a:rPr b="0" lang="pl-PL" sz="3200" spc="-1" strike="noStrike">
                <a:solidFill>
                  <a:srgbClr val="feec94"/>
                </a:solidFill>
                <a:latin typeface="Arial"/>
              </a:rPr>
              <a:t> </a:t>
            </a: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tanowi 3 ogniwo w cyklu programów antytytoniowych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100000"/>
              </a:lnSpc>
              <a:spcBef>
                <a:spcPts val="700"/>
              </a:spcBef>
              <a:buClr>
                <a:srgbClr val="b76a03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dresowany jest do uczniów starszych klas szkoły podstawowej– w tym okresie gwałtownie wzrasta liczba dzieci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 młodzieży próbujących po raz pierwszych zapalić papierosa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 algn="just">
              <a:lnSpc>
                <a:spcPct val="100000"/>
              </a:lnSpc>
              <a:spcBef>
                <a:spcPts val="700"/>
              </a:spcBef>
              <a:buClr>
                <a:srgbClr val="b76a03"/>
              </a:buClr>
              <a:buFont typeface="Arial"/>
              <a:buChar char="•"/>
              <a:tabLst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skoncentrowany głównie na psychospołecznych mechanizmach kształtujących postawy i zachowa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39840" algn="just">
              <a:spcBef>
                <a:spcPts val="799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feec94"/>
                </a:solidFill>
                <a:latin typeface="Arial Black"/>
              </a:rPr>
              <a:t>Cel główny progra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2"/>
          <p:cNvSpPr/>
          <p:nvPr/>
        </p:nvSpPr>
        <p:spPr>
          <a:xfrm>
            <a:off x="838080" y="1905120"/>
            <a:ext cx="800748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39840">
              <a:spcBef>
                <a:spcPts val="901"/>
              </a:spcBef>
              <a:tabLst>
                <a:tab algn="l" pos="0"/>
                <a:tab algn="l" pos="3430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1280"/>
                <a:tab algn="l" pos="1078056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3600" spc="-1" strike="noStrike">
                <a:solidFill>
                  <a:srgbClr val="ffffff"/>
                </a:solidFill>
                <a:latin typeface="Arial"/>
              </a:rPr>
              <a:t>Zapobieganie paleniu tytoniu wśród uczniów starszych klas szkół podstawowy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438280" y="3809880"/>
            <a:ext cx="4048200" cy="2333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1"/>
          <p:cNvSpPr/>
          <p:nvPr/>
        </p:nvSpPr>
        <p:spPr>
          <a:xfrm>
            <a:off x="533520" y="189000"/>
            <a:ext cx="8385120" cy="152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Cele szczegółowe programu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2"/>
          <p:cNvSpPr/>
          <p:nvPr/>
        </p:nvSpPr>
        <p:spPr>
          <a:xfrm>
            <a:off x="179280" y="1268280"/>
            <a:ext cx="8569440" cy="41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większenie wiedzy w zakresie szkodliwości palenia tytoni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ształtowanie umiejętności dbania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o zdrowie własne i swoich bliski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Kształtowanie postaw asertywnych związanych z unikaniem biernego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 czynnego pal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4859280" y="4508640"/>
            <a:ext cx="251928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Struktura progra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228600" y="1828800"/>
            <a:ext cx="800748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5 zajęć warsztatowych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oznajmy się bliżej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Laboratorium ciał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aucz się mówić „ni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najdź właściwe rozwiązan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buClr>
                <a:srgbClr val="ffff00"/>
              </a:buClr>
              <a:buFont typeface="Arial"/>
              <a:buAutoNum type="arabicPeriod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wierz w siebi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spcBef>
                <a:spcPts val="799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6400800" y="1828800"/>
            <a:ext cx="253368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1"/>
          <p:cNvSpPr/>
          <p:nvPr/>
        </p:nvSpPr>
        <p:spPr>
          <a:xfrm>
            <a:off x="457200" y="476280"/>
            <a:ext cx="8385120" cy="16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Warsztat I </a:t>
            </a:r>
            <a:br>
              <a:rPr sz="4000"/>
            </a:b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Poznajmy się bliżej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"/>
          <p:cNvSpPr/>
          <p:nvPr/>
        </p:nvSpPr>
        <p:spPr>
          <a:xfrm>
            <a:off x="457200" y="2492280"/>
            <a:ext cx="8007480" cy="337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Integracja grupy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yróżnienie liderów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zasadnienie i wzmocnienie postaw zobowiązujących do niepalen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6600" indent="-6066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606600"/>
                <a:tab algn="l" pos="1054080"/>
                <a:tab algn="l" pos="1503360"/>
                <a:tab algn="l" pos="1952640"/>
                <a:tab algn="l" pos="2401920"/>
                <a:tab algn="l" pos="2851200"/>
                <a:tab algn="l" pos="3300480"/>
                <a:tab algn="l" pos="3749760"/>
                <a:tab algn="l" pos="4199040"/>
                <a:tab algn="l" pos="4648320"/>
                <a:tab algn="l" pos="5097600"/>
                <a:tab algn="l" pos="5546880"/>
                <a:tab algn="l" pos="5996160"/>
                <a:tab algn="l" pos="6445080"/>
                <a:tab algn="l" pos="6894360"/>
                <a:tab algn="l" pos="7343640"/>
                <a:tab algn="l" pos="7792920"/>
                <a:tab algn="l" pos="8242200"/>
                <a:tab algn="l" pos="8691480"/>
                <a:tab algn="l" pos="9140760"/>
                <a:tab algn="l" pos="959004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6300720" y="4653000"/>
            <a:ext cx="20890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1"/>
          <p:cNvSpPr/>
          <p:nvPr/>
        </p:nvSpPr>
        <p:spPr>
          <a:xfrm>
            <a:off x="457200" y="404640"/>
            <a:ext cx="8385120" cy="12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Warsztat II </a:t>
            </a:r>
            <a:br>
              <a:rPr sz="4400"/>
            </a:br>
            <a:r>
              <a:rPr b="1" lang="pl-PL" sz="4400" spc="-1" strike="noStrike">
                <a:solidFill>
                  <a:srgbClr val="feec94"/>
                </a:solidFill>
                <a:latin typeface="Arial Black"/>
              </a:rPr>
              <a:t>Laboratorium ciał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"/>
          <p:cNvSpPr/>
          <p:nvPr/>
        </p:nvSpPr>
        <p:spPr>
          <a:xfrm>
            <a:off x="304920" y="2205000"/>
            <a:ext cx="854064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skazanie na doskonałe funkcjonowanie ludzkiego organizmu oraz na jego potrzeby,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a przede wszystkim konieczność odpowiedniego odżywiania się i czystego powietrz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4788000" y="4292640"/>
            <a:ext cx="2879640" cy="208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57200" y="0"/>
            <a:ext cx="838512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Warsztat III </a:t>
            </a:r>
            <a:br>
              <a:rPr sz="4000"/>
            </a:b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Naucz się mówić „nie”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228600" y="1557360"/>
            <a:ext cx="8616960" cy="484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przekazanie podstawowych wiadomości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nt. zachowań stanowczyc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czenie się rozpoznawania swoich zachowań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świadomienie mechanizmu nacisku grupowego i uczenie się mówienia „nie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3" descr=""/>
          <p:cNvPicPr/>
          <p:nvPr/>
        </p:nvPicPr>
        <p:blipFill>
          <a:blip r:embed="rId1"/>
          <a:stretch/>
        </p:blipFill>
        <p:spPr>
          <a:xfrm>
            <a:off x="2916360" y="4581360"/>
            <a:ext cx="2952720" cy="2030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76a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1"/>
          <p:cNvSpPr/>
          <p:nvPr/>
        </p:nvSpPr>
        <p:spPr>
          <a:xfrm>
            <a:off x="457200" y="333360"/>
            <a:ext cx="838512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Warsztat IV</a:t>
            </a:r>
            <a:br>
              <a:rPr sz="4000"/>
            </a:br>
            <a:r>
              <a:rPr b="1" lang="pl-PL" sz="4000" spc="-1" strike="noStrike">
                <a:solidFill>
                  <a:srgbClr val="feec94"/>
                </a:solidFill>
                <a:latin typeface="Arial Black"/>
              </a:rPr>
              <a:t>Znajdź właściwe rozwiązanie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2"/>
          <p:cNvSpPr/>
          <p:nvPr/>
        </p:nvSpPr>
        <p:spPr>
          <a:xfrm>
            <a:off x="228600" y="1628640"/>
            <a:ext cx="8388360" cy="47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 algn="just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ozpoznawanie emocji przeżywanych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w sytuacjach trudnych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uświadomienie mechanizmu konfliktu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 algn="just">
              <a:spcBef>
                <a:spcPts val="700"/>
              </a:spcBef>
              <a:buClr>
                <a:srgbClr val="ffff00"/>
              </a:buClr>
              <a:buFont typeface="Wingdings" charset="2"/>
              <a:buChar char="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rozwijanie umiejętności radzenia sobie  </a:t>
            </a:r>
            <a:br>
              <a:rPr sz="3200"/>
            </a:br>
            <a:r>
              <a:rPr b="0" lang="pl-PL" sz="3200" spc="-1" strike="noStrike">
                <a:solidFill>
                  <a:srgbClr val="ffffff"/>
                </a:solidFill>
                <a:latin typeface="Arial"/>
              </a:rPr>
              <a:t>z problem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3" descr=""/>
          <p:cNvPicPr/>
          <p:nvPr/>
        </p:nvPicPr>
        <p:blipFill>
          <a:blip r:embed="rId1"/>
          <a:stretch/>
        </p:blipFill>
        <p:spPr>
          <a:xfrm>
            <a:off x="5940360" y="429264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OZ</dc:creator>
  <dc:description/>
  <dc:language>en-US</dc:language>
  <cp:lastModifiedBy>PSSE Toruń - Patrycja Krumpolc</cp:lastModifiedBy>
  <dcterms:modified xsi:type="dcterms:W3CDTF">2024-11-21T12:35:18Z</dcterms:modified>
  <cp:revision>6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